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7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4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89A8-21E3-4F6A-8CE2-C427F03A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249-C323-491B-AE8F-744AF61E81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2504-C66E-4A9B-83C5-5D8D7DF3EF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B178-8EF3-4427-8F15-7CCF68A9D6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0681-7D93-4B2A-8CA6-51AC9FD7D4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FA1-BE1F-4321-B14E-09AC1E8711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D3FE-E700-4229-9431-5BE2F6CEC5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0C7-5EC2-42BD-9D94-3C78F0BB59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F42-110B-40AC-A2C2-40AB3B5E20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30CA-FF25-4C90-8F27-4561B7A7B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F82-F105-4F56-B35F-8B07D20F3B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2F9C-77D7-4760-950E-95027A8FBE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207-EDC2-49E5-9423-1F1D15A55B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A307-31DD-4FA2-A684-243F032D42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C0ED-35DF-4980-9D03-0169DA16A8D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2AEA-E392-41D1-AAC5-DD03FAB8A7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727-32F3-4DF3-953A-D0BF9D3770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234-398A-4316-BFF1-D8614F5742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2EED-5927-49EE-91C2-ECB2175CC4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040-AFF1-45A9-BABC-59D9D02076B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F0B6-B322-477E-94B0-759CF82573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97DA-4BB9-4A1E-8848-ABD3A5F062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420-9C9C-400A-B6AD-AF6C09C1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E0B-E6B5-4A9E-8D60-AEB2EA10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160-6E87-4E8F-9820-88F3DBE4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423-983C-4173-B892-22E26127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9618-DE7A-43B5-8622-A00CE862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AE9D-0CB7-4F4C-89C5-C2A1EC65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AE9E-B956-4880-AF0F-EFEC7C65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82AB-5641-4204-B2A2-101F1C5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32D-EA2E-4ADC-9275-DC57AA48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B25E-57F6-4F1F-99A3-CF3B489B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1C6A-6293-4119-B1AA-F7D3D2E6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45D-43F5-4D0E-832D-45744E3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C357-0CB9-4EFD-A997-158297F1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C21D-0AE0-408F-BA64-CF90C0B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29CA-9DBD-40C3-A93D-0C8761B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55AC-9C05-4A51-8A33-41B7F42F1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E272-7E0A-415E-8452-D10FE32D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772E-3BDD-41D8-B098-90D297D7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60A9-8CED-464D-A342-7BF3F61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4C81-DFB4-42F1-BE2E-873AC55E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1E0B9-EA5E-4A42-B54F-B46DB6A4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6F09-A1D2-4B9B-BAAF-FEC3773B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A28-15CA-4691-9565-6B844324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BEBC-DEAD-4E1C-9A61-5F4E3AE6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6F93F-A5E8-4FEA-98F7-F4F9ABC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E3FF-5AEF-4AB1-B2B5-D087DCE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D0155-4CE1-47A9-90A0-847681E4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1924-B842-4B12-805E-5E1A0E0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0CCDD-19A3-4D9E-8388-9C88AF5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3A7C-5241-43CF-B19D-85AB4151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BB6D-17B1-4979-80AD-10076908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A41B-89EA-4D1A-A66D-06D4C75D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3B57-1A9F-46E5-BCFC-33FA4EB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E46-F832-46AC-87CD-A8D5327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AF6D-CBED-40C9-853D-703EB3DC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24C3-3ADE-46B9-A62E-EDDADA4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3C22-8E1C-4611-9BE6-6B82885A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DA7AE-1D8B-4651-9DDD-21EA782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A519-7EAE-4A87-B297-BFAB30CE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2684-3D8D-4E53-BD77-347E279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1C955-F9C6-4C29-9F75-EB44D8D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CCAB-24D4-4C48-8851-AB39F87C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ACF4F-1F2E-40E8-B4EE-687925F0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5DC4-961A-4331-9068-B79BF6B3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AD1-2A91-43C2-BAC1-B86CC00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0DCEA-4D4B-48D2-A0FC-812F662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C7C0E-E95E-4130-87AF-49089401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5490-FBCF-4B29-A3D3-1F4BDD87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C0A75-DCE7-4A57-8155-B817A90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B3FB4-0334-4877-A4D6-EAF98316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4624-6BA8-4AD0-856A-10F1D4D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84F3-F793-44A3-B0B9-4C3B921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E4F8-5202-4260-ADD1-00780899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2BB40-19E1-4F55-81C2-DB1D127E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DDF6-9131-43F2-8ABC-0CBCDFE3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9D8-D6DB-47EE-AF83-0B839C40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05C82-88A9-4258-B6BD-8E788309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E8BAD-4AF4-4945-A54B-D6A9D45C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A4AE-4AB9-4DC6-8D97-5FD9EFEA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64E4-7563-44E7-B10C-F2688439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D3D2-4268-4D46-95EA-1F01C688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02D00-F608-43C7-A08E-427B73C5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5EFBB-1633-4D66-888A-3A248812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578EE-92C5-4A1D-8173-7245B30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2824-4CCB-4C58-9925-D878A3F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31F0-4ED5-4F9A-88E7-58B51F5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5F5-3F3C-4D03-B040-690B4BD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BE227-D2E3-476D-8AF0-0874B894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FEF56-4CDC-4C9D-A720-971E86A9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FF5D-B8A4-4BEE-B795-00067820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37E1-4DB9-44A5-A5B4-CF653076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4947-DA63-4EF0-B4CC-E10C822D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09C8A-E67A-43FE-9342-D7B5863A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E6DF5-7679-42BA-87EB-5B719A50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E7ED2-C9BF-42C8-90D3-7306ABFC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3DA3-7655-4B70-A529-BD3BC6A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7D69B-00A0-4189-96F9-6EAA1018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DCF-BD28-467D-8A39-63E6615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066D-4944-46E8-B27B-004E91B0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21D2C-9ACA-42D8-BE6B-34CE6343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2897F-EE13-44F8-A76F-D94FE507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97448-98E3-42C1-8075-350A015E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C11E-15D2-40BD-98F7-97D5ABC9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E9C-FF0B-4949-9916-83A8045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58AD-3813-4D86-8874-3DEC1480DB1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B8E-7C5A-4266-B9F5-A061C1B89613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11DB-21BD-40FE-A3CB-CC68D2D7B9C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FF93-52AB-48AB-8AB5-11F4C2BE5EC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2E4E-7B0C-4E4D-9D2B-C4D0CF94CE4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EB1-84C1-4A89-A38E-28A9AA556A9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71FF-D7A7-42E5-855D-CE4A44513748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polycom.com/usa/en/solutions/industry_solutions/education/searchable_database.html" TargetMode="External"/><Relationship Id="rId3" Type="http://schemas.openxmlformats.org/officeDocument/2006/relationships/hyperlink" Target="http://www.cilc.org/c/education/content_provider_programs.aspx" TargetMode="External"/><Relationship Id="rId4" Type="http://schemas.openxmlformats.org/officeDocument/2006/relationships/hyperlink" Target="http://www.twice.cc/fieldtrips.html" TargetMode="Externa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ilc.org/search/content-provider-program.aspx?id=957" TargetMode="External"/><Relationship Id="rId3" Type="http://schemas.openxmlformats.org/officeDocument/2006/relationships/hyperlink" Target="http://www.cilc.org/search/content-provider-program.aspx?id=106" TargetMode="External"/><Relationship Id="rId4" Type="http://schemas.openxmlformats.org/officeDocument/2006/relationships/hyperlink" Target="http://www.cilc.org/search/content-provider-program.aspx?id=1450" TargetMode="External"/><Relationship Id="rId5" Type="http://schemas.openxmlformats.org/officeDocument/2006/relationships/hyperlink" Target="http://www.cilc.org/search/content-provider-program.aspx?id=472" TargetMode="External"/><Relationship Id="rId6" Type="http://schemas.openxmlformats.org/officeDocument/2006/relationships/hyperlink" Target="http://www.cilc.org/search/content-provider-program.aspx?id=613" TargetMode="External"/><Relationship Id="rId7" Type="http://schemas.openxmlformats.org/officeDocument/2006/relationships/hyperlink" Target="http://www.cilc.org/search/content-provider-program.aspx?id=519" TargetMode="External"/><Relationship Id="rId8" Type="http://schemas.openxmlformats.org/officeDocument/2006/relationships/hyperlink" Target="http://www.cilc.org/search/content-provider-program.aspx?id=1810" TargetMode="External"/><Relationship Id="rId9" Type="http://schemas.openxmlformats.org/officeDocument/2006/relationships/hyperlink" Target="http://www.cilc.org/search/content-provider-program.aspx?id=1635" TargetMode="External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ilc.org/search/content-provider-program.aspx?id=1958" TargetMode="External"/><Relationship Id="rId3" Type="http://schemas.openxmlformats.org/officeDocument/2006/relationships/hyperlink" Target="http://www3.cet.edu/clc/main.html" TargetMode="External"/><Relationship Id="rId4" Type="http://schemas.openxmlformats.org/officeDocument/2006/relationships/hyperlink" Target="http://www.cilc.org/search/content-provider-program.aspx?id=1709" TargetMode="External"/><Relationship Id="rId5" Type="http://schemas.openxmlformats.org/officeDocument/2006/relationships/hyperlink" Target="http://www.nasm.si.edu/education/classroom_videoconf.cfm" TargetMode="External"/><Relationship Id="rId6" Type="http://schemas.openxmlformats.org/officeDocument/2006/relationships/hyperlink" Target="http://www.carnegiemnh.org/doe/programs/DL.htm" TargetMode="External"/><Relationship Id="rId7" Type="http://schemas.openxmlformats.org/officeDocument/2006/relationships/hyperlink" Target="http://dln.nasa.gov/dln/" TargetMode="External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education.baseballhalloffame.org/experience/videoconferences.html" TargetMode="External"/><Relationship Id="rId3" Type="http://schemas.openxmlformats.org/officeDocument/2006/relationships/hyperlink" Target="http://www.profootballhof.com/hall/distancelearning.aspx" TargetMode="External"/><Relationship Id="rId4" Type="http://schemas.openxmlformats.org/officeDocument/2006/relationships/hyperlink" Target="http://americanart.si.edu/education/" TargetMode="External"/><Relationship Id="rId5" Type="http://schemas.openxmlformats.org/officeDocument/2006/relationships/hyperlink" Target="http://www.mountvernon.org/learn/teachers_students/index.cfm/pid/1161/" TargetMode="External"/><Relationship Id="rId6" Type="http://schemas.openxmlformats.org/officeDocument/2006/relationships/hyperlink" Target="http://www.vanderbilt.edu/virtualschool/catalog.htm" TargetMode="External"/><Relationship Id="rId7" Type="http://schemas.openxmlformats.org/officeDocument/2006/relationships/hyperlink" Target="http://projects.twice.cc/" TargetMode="External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cartermuseum.org/teaching/distance-learning" TargetMode="External"/><Relationship Id="rId3" Type="http://schemas.openxmlformats.org/officeDocument/2006/relationships/hyperlink" Target="http://www.cilc.org/search/content-provider-program.aspx?id=1818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. If working with other schools, be sure to include a project timeli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f they are sharing they need time to prep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8. Before conference day, do a test connec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 sure to schedule it with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9. On conference day, set up the equipment EARLY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n agenda for start and stop time should be establishe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hen working collaboratively, decide who is responsible for each par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. Be prepared for the wors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copies of all materials in case of equipment failure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phone numbers available for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fore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t up an easy point to point conference with another class and have students practice introducing themselves and speaking loudly &amp; clearly into the micropho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students come up with questions and email them to the provi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mind students of the sensitivity of the microphone and of things they should and shouldn’t s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uring the conferenc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ve students seated and ready at least 10 minutes before the start tim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a seating chart was not given to the provider, have nametags placed in visible location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cide upon a procedure for asking questions with the provider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te your microphone for the class until they need to speak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an assignment related to the conference information ready for the stud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vide the students with a brief evaluation of their experienc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view the evaluations and reflect upon the conference’s impact on learn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ectacular Cont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significant interactiv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blends with the curricul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ectacular Content Provid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easy access to instructional aid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have subject matter experts on-han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want feedback and provide it for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- have a passion for what they 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nderstanding of state requiremen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72964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22600"/>
            <a:ext cx="3657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archable Databa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olyco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enter for Interactive Learning and Collaboration (CIL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Two Way Interactive Connection in Education (TWICE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2" descr="C:\Users\Mary Wallace\AppData\Local\Microsoft\Windows\Temporary Internet Files\Content.IE5\XX8ZXM1I\MCj04316430000[1].png"/>
          <p:cNvPicPr/>
          <p:nvPr/>
        </p:nvPicPr>
        <p:blipFill>
          <a:blip r:embed="rId5"/>
          <a:stretch/>
        </p:blipFill>
        <p:spPr>
          <a:xfrm>
            <a:off x="1219320" y="35812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1000" autoRev="1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380880" y="2057400"/>
            <a:ext cx="2895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th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504960" y="1722240"/>
            <a:ext cx="5181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ath Connections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Ani-Math K-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ozart Math 2-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ath &amp; Music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Batter Up 4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Math Connections in Art (Gridding)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Mathematica-Math in Society 6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What Good is a Parabola Anyway? 8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3" descr="C:\Users\Mary Wallace\AppData\Local\Microsoft\Windows\Temporary Internet Files\Content.IE5\T98HM1K2\MCj04361510000[1].wmf"/>
          <p:cNvPicPr/>
          <p:nvPr/>
        </p:nvPicPr>
        <p:blipFill>
          <a:blip r:embed="rId10"/>
          <a:stretch/>
        </p:blipFill>
        <p:spPr>
          <a:xfrm>
            <a:off x="914400" y="3276720"/>
            <a:ext cx="1857240" cy="164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6840" y="1722240"/>
            <a:ext cx="30481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cience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657600" y="172260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assport to Planet Earth K-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hallenger Learning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Can a Shoebox Fly? FREE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National Air &amp; Space Muse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Smithsonian Environmental Research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SI (Center of Science &amp; Industr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Carnegie Museum of Natural History K-12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NASA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3" descr="C:\Users\Mary Wallace\AppData\Local\Microsoft\Windows\Temporary Internet Files\Content.IE5\XX8ZXM1I\MCj03985510000[1].wmf"/>
          <p:cNvPicPr/>
          <p:nvPr/>
        </p:nvPicPr>
        <p:blipFill>
          <a:blip r:embed="rId8"/>
          <a:stretch/>
        </p:blipFill>
        <p:spPr>
          <a:xfrm>
            <a:off x="1295280" y="2895480"/>
            <a:ext cx="1362240" cy="1863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2260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Gothic"/>
              </a:rPr>
              <a:t>History: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5840" y="1722600"/>
            <a:ext cx="4800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National Base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oot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A House Divided FREE 5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t. Vernon Estate &amp; Garde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Virtual School @ Vanderbilt Univers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History Quest &amp; Mystery 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3" descr="C:\Users\Mary Wallace\AppData\Local\Microsoft\Windows\Temporary Internet Files\Content.IE5\Y9Y83ON7\MCj01498480000[1].wmf"/>
          <p:cNvPicPr/>
          <p:nvPr/>
        </p:nvPicPr>
        <p:blipFill>
          <a:blip r:embed="rId8"/>
          <a:stretch/>
        </p:blipFill>
        <p:spPr>
          <a:xfrm>
            <a:off x="685800" y="259092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600200"/>
            <a:ext cx="3352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Language Arts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1480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etaphorically Speaking 6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lying Fingers (Adora Svitak)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ose &amp; Poetry at the Primary Level 2-5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ieces of Other Places (The Story Peddlers) 3-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dgar Allen Poe 8-12 (Center for Puppetry Ar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5" name="Picture 2" descr="C:\Users\Mary Wallace\AppData\Local\Microsoft\Windows\Temporary Internet Files\Content.IE5\9RXCMCMU\MCj04326650000[1].png"/>
          <p:cNvPicPr/>
          <p:nvPr/>
        </p:nvPicPr>
        <p:blipFill>
          <a:blip r:embed="rId4"/>
          <a:stretch/>
        </p:blipFill>
        <p:spPr>
          <a:xfrm>
            <a:off x="1219320" y="2514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885840" y="1722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t’s a communication technology that integrates video &amp; voice to connect remote users with each other as if they were in the same 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rs see each other in real time allowing for natural convers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Users\Mary Wallace\AppData\Local\Microsoft\Windows\Temporary Internet Files\Content.IE5\Y9Y83ON7\MCj02374910000[1].wmf"/>
          <p:cNvPicPr/>
          <p:nvPr/>
        </p:nvPicPr>
        <p:blipFill>
          <a:blip r:embed="rId2"/>
          <a:stretch/>
        </p:blipFill>
        <p:spPr>
          <a:xfrm>
            <a:off x="484200" y="2133720"/>
            <a:ext cx="3139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2520" y="262080"/>
            <a:ext cx="85107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reality today is that we are all interdependent and have to co-exist on this small planet. Therefore, the only sensible and intelligent way of resolving differences and clashes of interests, whether between individuals or nations, is through dialogue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- The Dalai Lam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se Ge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operating School Distric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enter for Interactive Learning and Collab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2" descr=""/>
          <p:cNvPicPr/>
          <p:nvPr/>
        </p:nvPicPr>
        <p:blipFill>
          <a:blip r:embed="rId1"/>
          <a:stretch/>
        </p:blipFill>
        <p:spPr>
          <a:xfrm>
            <a:off x="195120" y="122400"/>
            <a:ext cx="8498160" cy="15476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llabor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ing formal/informal cha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irtual field trip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porting News (ex. NASA space fligh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est Experts/Visito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m Learning and Teach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udent Competi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ltural Ex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ti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mone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ows for visits to places that would be impossibl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ings students from remote or isolated locations together with other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523880" y="2590920"/>
            <a:ext cx="1981440" cy="2611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ddresses different learning styles/multiple intelligenc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tivating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vides practice of presentation &amp; communication skil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hances research &amp; technology skill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371600" y="2362320"/>
            <a:ext cx="2355840" cy="3105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22600"/>
            <a:ext cx="40384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nhanced program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ccess to exper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New dimension of discourse in the class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ange my life” kind of experience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opportunity to evolve into the role of “content provider.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Content Placeholder 6" descr="video conf. &amp; girls wkend 001.JPG"/>
          <p:cNvPicPr/>
          <p:nvPr/>
        </p:nvPicPr>
        <p:blipFill>
          <a:blip r:embed="rId2"/>
          <a:stretch/>
        </p:blipFill>
        <p:spPr>
          <a:xfrm>
            <a:off x="4838760" y="2614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657240" y="17524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input: video camera or webc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output: computer monitor, television, or project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input: micropho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output: speak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Transfer: LAN or Interne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2" descr="C:\Users\Mary Wallace\AppData\Local\Microsoft\Windows\Temporary Internet Files\Content.IE5\XX8ZXM1I\MCj03577670000[1].wmf"/>
          <p:cNvPicPr/>
          <p:nvPr/>
        </p:nvPicPr>
        <p:blipFill>
          <a:blip r:embed="rId2"/>
          <a:stretch/>
        </p:blipFill>
        <p:spPr>
          <a:xfrm>
            <a:off x="533520" y="1447920"/>
            <a:ext cx="1131840" cy="16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C:\Users\Mary Wallace\AppData\Local\Microsoft\Windows\Temporary Internet Files\Content.IE5\Y9Y83ON7\MCj03121320000[1].wmf"/>
          <p:cNvPicPr/>
          <p:nvPr/>
        </p:nvPicPr>
        <p:blipFill>
          <a:blip r:embed="rId3"/>
          <a:stretch/>
        </p:blipFill>
        <p:spPr>
          <a:xfrm>
            <a:off x="2209680" y="2514600"/>
            <a:ext cx="1086120" cy="152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C:\Users\Mary Wallace\AppData\Local\Microsoft\Windows\Temporary Internet Files\Content.IE5\XX8ZXM1I\MCj04123380000[1].wmf"/>
          <p:cNvPicPr/>
          <p:nvPr/>
        </p:nvPicPr>
        <p:blipFill>
          <a:blip r:embed="rId4"/>
          <a:stretch/>
        </p:blipFill>
        <p:spPr>
          <a:xfrm>
            <a:off x="1600200" y="4800600"/>
            <a:ext cx="1825560" cy="1352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C:\Users\Mary Wallace\AppData\Local\Microsoft\Windows\Temporary Internet Files\Content.IE5\9RXCMCMU\MCj04316120000[1].png"/>
          <p:cNvPicPr/>
          <p:nvPr/>
        </p:nvPicPr>
        <p:blipFill>
          <a:blip r:embed="rId5"/>
          <a:stretch/>
        </p:blipFill>
        <p:spPr>
          <a:xfrm>
            <a:off x="228600" y="3276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7820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Before starting ask yourself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ll VC really benefit my projec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uld the project be done using another medium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m I using VC just because it’s really cool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Think of a project that would benef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Find partners to participa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content you may want to invite      additional classrooms or an expert provide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72392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. Share information with the provider via the web or email – get as much contact information as possible!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. Set a date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now the dates you wa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ork well in advance (3 to 4 months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. Find out if you must schedule through a bridge or if the connection is point to point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ridges must be used when handling mixed protocols (H.320 ISDN &amp; H.323 I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lti Point Control Units are bridges that can connect calls from several sourc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2:49:09Z</dcterms:created>
  <dc:creator>Mary Wallace</dc:creator>
  <dc:description/>
  <dc:language>en-US</dc:language>
  <cp:lastModifiedBy>Mary Wallace</cp:lastModifiedBy>
  <dcterms:modified xsi:type="dcterms:W3CDTF">2009-07-28T01:07:28Z</dcterms:modified>
  <cp:revision>24</cp:revision>
  <dc:subject/>
  <dc:title>Slide 1</dc:title>
</cp:coreProperties>
</file>